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A03-16DC-44E6-8DF7-250FEAC2952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545-F4E0-4208-8E2D-3175C7C337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D7A-2B09-4F8E-8417-6FAAE953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DFB-AAD5-4D9D-9E5B-DC614652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F78-8050-49FC-A117-88D5F1D2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442-0446-4470-9780-C035C91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03E-ACBB-41E7-B5FC-E461B24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743-7E3C-4AF1-96FD-885EA62A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558-A2BE-409C-A7B9-1D038C7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293-0C10-4238-B119-DA4210F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C54-A32E-46C2-8C50-53F8B83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7C0-0BB7-47C0-A108-FBCF2F9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B01-AC40-4122-A4B0-79525AAF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4D2-1870-48EB-91E3-4EB49F1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4CE-14EB-4799-AFF8-5282E80B4805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Fire in the Fores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3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6"/>
          <p:cNvCxnSpPr>
            <a:stCxn id="166" idx="7"/>
            <a:endCxn id="167" idx="2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70" name="Straight Arrow Connector 8"/>
          <p:cNvCxnSpPr>
            <a:stCxn id="167" idx="6"/>
            <a:endCxn id="168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states: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all cells are 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"/>
          <p:cNvCxnSpPr>
            <a:stCxn id="175" idx="6"/>
            <a:endCxn id="176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78" name="Oval 9"/>
          <p:cNvSpPr/>
          <p:nvPr/>
        </p:nvSpPr>
        <p:spPr>
          <a:xfrm>
            <a:off x="3059280" y="5661000"/>
            <a:ext cx="216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11"/>
          <p:cNvCxnSpPr>
            <a:stCxn id="179" idx="7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ty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state: select randomly between empty/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4T13:08:40Z</dcterms:modified>
  <cp:revision>382</cp:revision>
  <dc:subject/>
  <dc:title>Low-carbon growth in Brazil?</dc:title>
</cp:coreProperties>
</file>